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F17-E605-4A2D-AFBB-93694BC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5E5-FCB2-4478-B951-7864003E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476-F7E2-4C5D-A70B-1CFAE03A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926-D063-4B7A-980E-E1E83502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A6FD-E3D5-4DA1-B004-8A7B3042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DA6-AC12-48CF-A849-77FF692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9892-7281-45F4-98CB-BEFD55F3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1230-94C4-438D-84B5-7D6B826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318-15E7-41BE-AEF0-C2B45FB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AF7C-3E19-4F9A-92AD-C55B587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3AAB-85D1-403C-BEFF-0405E12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A9A-E091-4252-A664-6C43D317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FC75-D7BA-431C-B5B1-00219F9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975-05F2-42DF-9715-A8D41F6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62C-78E3-4683-AE44-FE24BEC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A9E7-E657-4C1D-8EAC-9FF23CCA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8B7C-B163-4CB2-A67A-2FBDB9C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967-BBFD-451E-BB2B-D36DCCF9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13A-9996-4B0B-A582-6E137930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F45-AF17-4927-AAEA-65E925AA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148-5AFE-4C40-9B79-12597D2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46A-BB16-4119-BAAF-7305927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7FC-8A5C-4C76-BD04-E2E0B01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8D4-B6CF-4D84-9335-840DCFC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623-7A38-4DDD-ACB7-F9936EE1F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9EC-49CD-4FD0-B2AF-FED2E54CE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aichin@mineola.k12.ny.us" TargetMode="External"/><Relationship Id="rId2" Type="http://schemas.openxmlformats.org/officeDocument/2006/relationships/hyperlink" Target="mailto:jpatterson@mineola.k12.ny.us" TargetMode="External"/><Relationship Id="rId3" Type="http://schemas.openxmlformats.org/officeDocument/2006/relationships/hyperlink" Target="mailto:wsmith@mineola.k12.ny.u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rcld.org/" TargetMode="External"/><Relationship Id="rId2" Type="http://schemas.openxmlformats.org/officeDocument/2006/relationships/hyperlink" Target="http://www.ncld.org/" TargetMode="External"/><Relationship Id="rId3" Type="http://schemas.openxmlformats.org/officeDocument/2006/relationships/hyperlink" Target="http://www.nasdse.org/" TargetMode="External"/><Relationship Id="rId4" Type="http://schemas.openxmlformats.org/officeDocument/2006/relationships/hyperlink" Target="http://www.rtinetwork.org/" TargetMode="External"/><Relationship Id="rId5" Type="http://schemas.openxmlformats.org/officeDocument/2006/relationships/hyperlink" Target="http://www.aimsweb.com/" TargetMode="External"/><Relationship Id="rId6" Type="http://schemas.openxmlformats.org/officeDocument/2006/relationships/hyperlink" Target="http://www.interventioncentral.org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:/RTI/IST%20RTI%20Flowchart.do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Who, What, When, Where, Why, and How of RtI in the Secondary School Setting: Making it Work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jmaichin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ice Patt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patterson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smith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uck in Tie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enario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team has an IST meeting to discuss a student who is struggling in school.  A few strategies were brainstormed after a lengthy conversation about what the student can’t do.  Six weeks later, the team meets again and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209680" cy="1719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638680" y="6095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e attached sample p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lementation Part II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rategy Development (Tier I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 Owne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s. “Buy 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e Faculty Meeting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 from IST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working in groups to brainstorm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 Out the ones that are not meas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the collective strategies with the entire faculty &amp; bring them to IST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ach the strategies to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ow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in Mineola Middl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chool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49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676520" y="48006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in the general education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(Content Area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3623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ll Group AIS (Reading / Special Ed.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828800"/>
            <a:ext cx="6553080" cy="2819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Structu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as a co-teacher (providing small group instr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--- Differentiated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sual Representation of Tiers II &amp; III in 7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25909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1981080"/>
            <a:ext cx="533160" cy="1752840"/>
          </a:xfrm>
          <a:custGeom>
            <a:avLst/>
            <a:gdLst>
              <a:gd name="textAreaLeft" fmla="*/ 0 w 533160"/>
              <a:gd name="textAreaRight" fmla="*/ 192600 w 5331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205740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5257800"/>
            <a:ext cx="381240" cy="838080"/>
          </a:xfrm>
          <a:custGeom>
            <a:avLst/>
            <a:gdLst>
              <a:gd name="textAreaLeft" fmla="*/ 0 w 381240"/>
              <a:gd name="textAreaRight" fmla="*/ 13752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5562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50496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the academic needs of stud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stati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elf-awareness of the students (e.g. skill breakdown on Assessments; DI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ower the IST to make a differ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emotional needs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 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monthly progress monito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BM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monthly progress monito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952880" y="5562720"/>
            <a:ext cx="3962520" cy="106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133720" y="30481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30481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7-2008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bert Einstein once sa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finition of insanity is doing the same thing over and over again and expecting different resul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333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7-2008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 strategies 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iculum        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791320"/>
            <a:ext cx="76212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 rot="1614600">
            <a:off x="6248160" y="457200"/>
            <a:ext cx="1244520" cy="1209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380880" y="4038480"/>
            <a:ext cx="825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30492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90880" y="1695600"/>
            <a:ext cx="28004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tI Resources/Lin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nr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n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nasds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rtinetwork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aimsweb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interventioncentral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Compone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0760" y="1951200"/>
            <a:ext cx="3822120" cy="3822120"/>
            <a:chOff x="2660760" y="1951200"/>
            <a:chExt cx="3822120" cy="3822120"/>
          </a:xfrm>
        </p:grpSpPr>
        <p:sp>
          <p:nvSpPr>
            <p:cNvPr id="218" name="_s46089"/>
            <p:cNvSpPr/>
            <p:nvPr/>
          </p:nvSpPr>
          <p:spPr>
            <a:xfrm>
              <a:off x="3271680" y="195120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6094"/>
            <p:cNvSpPr/>
            <p:nvPr/>
          </p:nvSpPr>
          <p:spPr>
            <a:xfrm rot="5400000">
              <a:off x="388260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6090"/>
            <p:cNvSpPr/>
            <p:nvPr/>
          </p:nvSpPr>
          <p:spPr>
            <a:xfrm rot="10800000">
              <a:off x="3271680" y="317304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6092"/>
            <p:cNvSpPr/>
            <p:nvPr/>
          </p:nvSpPr>
          <p:spPr>
            <a:xfrm rot="16200000">
              <a:off x="266076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6087"/>
            <p:cNvSpPr/>
            <p:nvPr/>
          </p:nvSpPr>
          <p:spPr>
            <a:xfrm>
              <a:off x="5264280" y="21906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ered Instruction /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6088"/>
            <p:cNvSpPr/>
            <p:nvPr/>
          </p:nvSpPr>
          <p:spPr>
            <a:xfrm>
              <a:off x="2901960" y="45561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volv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46091"/>
            <p:cNvSpPr/>
            <p:nvPr/>
          </p:nvSpPr>
          <p:spPr>
            <a:xfrm>
              <a:off x="2900520" y="21924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Qualit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assroom I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6093"/>
            <p:cNvSpPr/>
            <p:nvPr/>
          </p:nvSpPr>
          <p:spPr>
            <a:xfrm>
              <a:off x="5265720" y="45543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go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udent Assess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right building-level leadership, RtI will not realize the potential it has in fundamentally altering for the better both the delivery system and educational practice in our school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r. David P. Prasse, Professor and Dean of the School of Education, Loyola University Chica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E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008 State Education Department Field M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use of RtI in the State'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to determine learning dis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D)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, effective July 1, 20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school districts have an RtI program in place as part of the process to determine if a student in grades K-4 is a student with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 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 on or after July 1, 2012, a school district shall not use the severe discrepancy criteria to determine that a student in kindergarten through grade four has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”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[8 NYCRR section 200.4(j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or to the State’s Memo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agency may use a process that determines if the child responds to scientific research-based intervention as part of the evaluation procedures…” (H.R. 1350, 2004, section 614 (b)(6)(A&amp;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 rot="20844600">
            <a:off x="4267080" y="5257440"/>
            <a:ext cx="35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ss string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10080" y="4876920"/>
            <a:ext cx="763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 (The Who?)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I Established 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stant Memb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ST Chairperson, Guidance Counselor, Speech Therapist, School Psychologist, Par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rying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am Teachers (General and Special Education), Encore Teachers, Support Staff, Social Worker, Stu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Attached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“MMS IST/RTI FLOWCH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Image of Slide 22"/>
          <p:cNvPicPr/>
          <p:nvPr/>
        </p:nvPicPr>
        <p:blipFill>
          <a:blip r:embed="rId2"/>
          <a:srcRect l="16999" t="32667" r="25000" b="12669"/>
          <a:stretch/>
        </p:blipFill>
        <p:spPr>
          <a:xfrm>
            <a:off x="5410080" y="1295280"/>
            <a:ext cx="25909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: What is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lassroom i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the general educati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program incorpora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-based instructional strategies o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assessment of strengths and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: Part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the staff about what RtI 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to fail” vs. 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with New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DEA 2004, Title 20, Section 1414, subsection b(6)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9-04-30T00:50:07Z</dcterms:modified>
  <cp:revision>24</cp:revision>
  <dc:subject/>
  <dc:title>Response to Intervention (RTI) &amp; The IST Process</dc:title>
</cp:coreProperties>
</file>